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ST-Aktivität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8" idx="3"/>
            <a:endCxn id="100" idx="1"/>
          </p:cNvCxnSpPr>
          <p:nvPr/>
        </p:nvCxnSpPr>
        <p:spPr>
          <a:xfrm>
            <a:off x="3313080" y="4082040"/>
            <a:ext cx="2699280" cy="36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cht relevan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440" y="5493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ST-Aktivität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5240" y="6396840"/>
            <a:ext cx="335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ST = Aspartat-Amino-Transfer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4T16:57:06Z</dcterms:modified>
  <cp:revision>332</cp:revision>
  <dc:subject/>
  <dc:title>Vorstellung einer Neuheit</dc:title>
</cp:coreProperties>
</file>